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gif" ContentType="image/gif"/>
  <Override PartName="/ppt/media/image9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3F1B-B40F-4E77-AF35-634138FA5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38D6-A7B3-4F91-A050-2C7DE863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59E2-D9A9-48D7-9811-C27EFDA76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6FF4-DD41-43FB-BC89-10BE1467C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D82A-D549-4714-80F3-45F43A487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C223-0C12-47BC-A023-2D063F5F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EE8F-3F9B-409A-8BC9-D0F795F9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165F-8855-4283-8198-9EFB0031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7818-C363-4B8E-A00C-24D3B7C2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C94F-27E8-4D18-8F4C-41AD99FE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00E5-5277-4FC3-BA57-A23FD21A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2009-2815-4185-85E5-0839E7F1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DB56-0C06-46A4-BF60-80AE89EC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94E5-FE02-46EE-8EC7-EC3CA00C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3D2E-6EA7-46EC-A38B-2E09BB20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3888-96D1-4BE4-BCF8-5E1DD4919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174B-1894-4087-9DAC-E4954CF69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57B90-0999-4730-B3EA-79B5BF537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61FC0-1B44-45C5-862A-ADF97720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FE3D2-698D-4F8A-BD22-674CD3D6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669C6-F5A9-47FE-935F-60A5D145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2D822-C30E-4CC8-9480-10C3CC06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997C-AFA5-4717-881A-24DA126E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860C1-812B-4D76-A484-232050E8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093F2-7A9E-46AC-BFD3-E8EA4188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8B870-ABB4-4D16-9420-B3F0DC06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92447-6ADE-48E8-B94D-6FD6F770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5890B-432F-43E6-8ABC-B2CD01D8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7D19A-1BAC-4246-8EE5-9B161F343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CEEAA-E413-4F09-BCF3-65642AF5B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B943-0CA7-4B66-A321-F0CEE228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4EEC-74F2-4EB8-9245-1232D266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9D98-C1EB-44A2-9FE6-59ACB3EF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DF8D-086C-4777-9A09-72339918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4978-F62D-4FC7-9567-2BDAC5D8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ED70-8AAC-4510-8CF8-05350748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93B9-2131-46ED-8AAB-AB8A09283F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A368-C8C2-487E-843C-39D0B768F5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7D9B-2680-4160-B366-29F4A103BA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B4BE-9DCD-450F-BA15-7F36FD867F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Fir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t out a pencil and your homework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lently complete the do first question on your handout. Stop before “The Water Cycle: Notes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rite down tonight’s homework assignment in your agend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ssign yourself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45720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Precipitation – water falls from clouds as rain, snow, sleet, or hail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Content Placeholder 4" descr=""/>
          <p:cNvPicPr/>
          <p:nvPr/>
        </p:nvPicPr>
        <p:blipFill>
          <a:blip r:embed="rId1"/>
          <a:srcRect l="8760" t="3367" r="1884" b="36023"/>
          <a:stretch/>
        </p:blipFill>
        <p:spPr>
          <a:xfrm>
            <a:off x="3429000" y="152280"/>
            <a:ext cx="5181480" cy="419112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4"/>
          <p:cNvSpPr/>
          <p:nvPr/>
        </p:nvSpPr>
        <p:spPr>
          <a:xfrm>
            <a:off x="2590920" y="26668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Evaporatio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5334120" y="13716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Condensatio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7467480" y="19051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cip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2286000" y="53352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 The Su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Which picture best represents the process of evapora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Content Placeholder 3" descr=""/>
          <p:cNvPicPr/>
          <p:nvPr/>
        </p:nvPicPr>
        <p:blipFill>
          <a:blip r:embed="rId1"/>
          <a:srcRect l="613" t="5052" r="-881" b="0"/>
          <a:stretch/>
        </p:blipFill>
        <p:spPr>
          <a:xfrm>
            <a:off x="1523880" y="1752480"/>
            <a:ext cx="6096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2. How are clouds made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3. What is one type of precipitation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ter Cycle G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ater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5" name="Group 5"/>
          <p:cNvGrpSpPr/>
          <p:nvPr/>
        </p:nvGrpSpPr>
        <p:grpSpPr>
          <a:xfrm>
            <a:off x="914400" y="914400"/>
            <a:ext cx="8229600" cy="5334120"/>
            <a:chOff x="914400" y="914400"/>
            <a:chExt cx="8229600" cy="5334120"/>
          </a:xfrm>
        </p:grpSpPr>
        <p:pic>
          <p:nvPicPr>
            <p:cNvPr id="166" name="Picture 6" descr="http://www.coe.ilstu.edu/scienceed/basolo/water/cycle2.JPG"/>
            <p:cNvPicPr/>
            <p:nvPr/>
          </p:nvPicPr>
          <p:blipFill>
            <a:blip r:embed="rId1"/>
            <a:stretch/>
          </p:blipFill>
          <p:spPr>
            <a:xfrm>
              <a:off x="1022040" y="914400"/>
              <a:ext cx="7413840" cy="533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7" name="Group 7"/>
            <p:cNvGrpSpPr/>
            <p:nvPr/>
          </p:nvGrpSpPr>
          <p:grpSpPr>
            <a:xfrm>
              <a:off x="914400" y="1493280"/>
              <a:ext cx="8229600" cy="3127320"/>
              <a:chOff x="914400" y="1493280"/>
              <a:chExt cx="8229600" cy="3127320"/>
            </a:xfrm>
          </p:grpSpPr>
          <p:sp>
            <p:nvSpPr>
              <p:cNvPr id="168" name="Rectangle 8"/>
              <p:cNvSpPr/>
              <p:nvPr/>
            </p:nvSpPr>
            <p:spPr>
              <a:xfrm>
                <a:off x="914400" y="1493280"/>
                <a:ext cx="2815200" cy="49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9"/>
              <p:cNvSpPr/>
              <p:nvPr/>
            </p:nvSpPr>
            <p:spPr>
              <a:xfrm>
                <a:off x="6328800" y="1652040"/>
                <a:ext cx="2815200" cy="590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0"/>
              <p:cNvSpPr/>
              <p:nvPr/>
            </p:nvSpPr>
            <p:spPr>
              <a:xfrm>
                <a:off x="4307400" y="4030200"/>
                <a:ext cx="3537000" cy="590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Rectangle 13"/>
          <p:cNvSpPr/>
          <p:nvPr/>
        </p:nvSpPr>
        <p:spPr>
          <a:xfrm>
            <a:off x="4572000" y="533520"/>
            <a:ext cx="1066680" cy="38088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6172200" y="1447920"/>
            <a:ext cx="1143000" cy="30456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3733920" y="3809880"/>
            <a:ext cx="1066680" cy="22860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6248520" y="3733920"/>
            <a:ext cx="914400" cy="30456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4" descr="swatercycle1"/>
          <p:cNvPicPr/>
          <p:nvPr/>
        </p:nvPicPr>
        <p:blipFill>
          <a:blip r:embed="rId1"/>
          <a:stretch/>
        </p:blipFill>
        <p:spPr>
          <a:xfrm>
            <a:off x="574560" y="609480"/>
            <a:ext cx="7731360" cy="57834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5"/>
          <p:cNvSpPr/>
          <p:nvPr/>
        </p:nvSpPr>
        <p:spPr>
          <a:xfrm>
            <a:off x="685800" y="609480"/>
            <a:ext cx="4724280" cy="60984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7772400" y="380880"/>
            <a:ext cx="533520" cy="45720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5638680" y="5867280"/>
            <a:ext cx="533520" cy="457200"/>
          </a:xfrm>
          <a:prstGeom prst="rect">
            <a:avLst/>
          </a:prstGeom>
          <a:solidFill>
            <a:srgbClr val="00009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5" descr="Watercycle"/>
          <p:cNvPicPr/>
          <p:nvPr/>
        </p:nvPicPr>
        <p:blipFill>
          <a:blip r:embed="rId1"/>
          <a:stretch/>
        </p:blipFill>
        <p:spPr>
          <a:xfrm>
            <a:off x="380880" y="1236600"/>
            <a:ext cx="8305920" cy="56214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6"/>
          <p:cNvSpPr/>
          <p:nvPr/>
        </p:nvSpPr>
        <p:spPr>
          <a:xfrm>
            <a:off x="6629400" y="2438280"/>
            <a:ext cx="11430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762120" y="2286000"/>
            <a:ext cx="99036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6629400" y="5867280"/>
            <a:ext cx="1295280" cy="304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qu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685800" y="4876920"/>
            <a:ext cx="121932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qu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457200" y="2666880"/>
            <a:ext cx="1828800" cy="38124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6172200" y="1219320"/>
            <a:ext cx="1752480" cy="38088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2895480" y="2819520"/>
            <a:ext cx="1905120" cy="30456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6248520" y="2743200"/>
            <a:ext cx="1828800" cy="38088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6324480" y="4343400"/>
            <a:ext cx="1676520" cy="45720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"/>
          <p:cNvPicPr/>
          <p:nvPr/>
        </p:nvPicPr>
        <p:blipFill>
          <a:blip r:embed="rId2"/>
          <a:stretch/>
        </p:blipFill>
        <p:spPr>
          <a:xfrm>
            <a:off x="7772400" y="1143000"/>
            <a:ext cx="88884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ter is always moving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5" descr="epa_water_cycle"/>
          <p:cNvPicPr/>
          <p:nvPr/>
        </p:nvPicPr>
        <p:blipFill>
          <a:blip r:embed="rId1"/>
          <a:stretch/>
        </p:blipFill>
        <p:spPr>
          <a:xfrm>
            <a:off x="2133720" y="1676520"/>
            <a:ext cx="5562360" cy="492264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5562720" y="26668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4038480" y="4572000"/>
            <a:ext cx="1524240" cy="38088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4572000" y="1447920"/>
            <a:ext cx="1600200" cy="30456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533520" y="3733920"/>
            <a:ext cx="1523880" cy="45720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990720" y="1981080"/>
            <a:ext cx="1371600" cy="30492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ip your paper over and silently complete the independent pract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have a question, raise your ha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finish early, complete the challenge se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gn yoursel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First and Objec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tivation – Water Cycle Song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 to New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ed Practice – Water Cycle G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ependent Practice - Hand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o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it Tick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mework Assig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 #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828800" y="1454040"/>
            <a:ext cx="563868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raw a picture of the water cycle.  Include evaporation, condensation, precipitation, and your energy sourc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e Creative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day’s Big Idea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alibri"/>
              </a:rPr>
              <a:t>SWBAT explain how the Sun and ocean interact in the water cycle.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ter Cycle So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Evaporation, condensation, precipitation falling dow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ese are all parts of the water cycle and it goes on round and roun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 - States of Ma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What are the 3 states of matter?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The Sun - the source of energy that causes the water cyc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Content Placeholder 4" descr=""/>
          <p:cNvPicPr/>
          <p:nvPr/>
        </p:nvPicPr>
        <p:blipFill>
          <a:blip r:embed="rId1"/>
          <a:srcRect l="8760" t="3367" r="1884" b="36023"/>
          <a:stretch/>
        </p:blipFill>
        <p:spPr>
          <a:xfrm>
            <a:off x="3429000" y="0"/>
            <a:ext cx="5181480" cy="41911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2590920" y="251460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__________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334120" y="121932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__________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7467480" y="1752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2286000" y="3808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 The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42670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Evaporation – water gets warm and changes from a liquid to a gas called water vap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Content Placeholder 4" descr=""/>
          <p:cNvPicPr/>
          <p:nvPr/>
        </p:nvPicPr>
        <p:blipFill>
          <a:blip r:embed="rId1"/>
          <a:srcRect l="8760" t="3367" r="1884" b="36023"/>
          <a:stretch/>
        </p:blipFill>
        <p:spPr>
          <a:xfrm>
            <a:off x="3429000" y="76320"/>
            <a:ext cx="5181480" cy="41907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4"/>
          <p:cNvSpPr/>
          <p:nvPr/>
        </p:nvSpPr>
        <p:spPr>
          <a:xfrm>
            <a:off x="2590920" y="259092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Evaporatio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5334120" y="12952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__________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7467480" y="1828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2286000" y="45720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 The Su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1. What do scientists call water changing from a liquid to a gas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2. What causes evaporation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04920" y="42670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Condensation – water cools down and changes from a gas into a liquid and forms clouds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Content Placeholder 4" descr=""/>
          <p:cNvPicPr/>
          <p:nvPr/>
        </p:nvPicPr>
        <p:blipFill>
          <a:blip r:embed="rId1"/>
          <a:srcRect l="8760" t="3367" r="1884" b="36023"/>
          <a:stretch/>
        </p:blipFill>
        <p:spPr>
          <a:xfrm>
            <a:off x="3429000" y="152280"/>
            <a:ext cx="5181480" cy="41911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4"/>
          <p:cNvSpPr/>
          <p:nvPr/>
        </p:nvSpPr>
        <p:spPr>
          <a:xfrm>
            <a:off x="2590920" y="26668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Evaporatio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5334120" y="137160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 Condensatio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7467480" y="19051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2286000" y="53352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 The Su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15:33:43Z</dcterms:created>
  <dc:creator>vdbwahoo</dc:creator>
  <dc:description/>
  <dc:language>en-US</dc:language>
  <cp:lastModifiedBy>Caroline Roth</cp:lastModifiedBy>
  <dcterms:modified xsi:type="dcterms:W3CDTF">2011-05-23T22:48:14Z</dcterms:modified>
  <cp:revision>52</cp:revision>
  <dc:subject/>
  <dc:title>The Water Cycle</dc:title>
</cp:coreProperties>
</file>